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2F54-BE61-424A-AA58-28AC84E93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ADED-774F-4F9D-8B04-5F28F752B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4B5E-7763-4E5C-A3C4-FA4D3A3BC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B17F-D628-43ED-9FA0-0E554019B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7404-FFA7-46E6-90C2-6AE5DBFCF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C998-F94C-419E-AEC8-F575B87B7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AB9E-FB51-439F-A43F-22734A2AF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8729-C987-4A16-83DB-9D5E1FC07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069E-582C-4F1E-A16B-511A3CF9E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2F1F-6A5D-4441-843B-7F6AE444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6D4B-8176-43E4-87EC-A52A9E79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674F-2893-4A7F-9EFD-E7081476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F4DF-629F-4604-BD70-F002B1CE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35E6-6BB8-491A-8DAA-1B9CE649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7E1A-A54F-4F3B-9C11-588FF14D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0192-8BCE-4AEF-958D-9623E573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D77C-11A9-449A-93C3-82E4225E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5BB7-8430-4437-A0C6-6563D6CA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23BE-B0B0-451A-9F0B-8B56C5FF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3C67-FAF6-4D84-96DE-1D5A01B6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8431-8899-4B05-9572-09EDBF90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4A8F-9B66-4F7C-8544-0E90286F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AA24-D254-4043-A38B-B9D7B1F4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F651-567C-42F7-AA77-F15500C6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23FE-E1CE-406C-A4D3-D612AAFF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0DB4-AA59-46A7-ABFA-F38EC7E8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5EE1-1F08-467E-94A6-F7F789F3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2623-7F49-470B-B1A4-74832998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E296-1611-4E05-8BB2-AFE59B7D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DAA6-5523-4E91-A858-6CEC174E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81BA-5A73-46A3-903D-6D9E8419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119A-0427-466A-831D-464633EE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D2B9-0778-4C88-81E9-BA4A8A7A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C55C-08CF-4EBD-8EDF-55C84362ECC7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BDD7-3219-47C8-8672-0D76D63F6E0B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dvanced-training.org.uk/" TargetMode="External"/><Relationship Id="rId2" Type="http://schemas.openxmlformats.org/officeDocument/2006/relationships/hyperlink" Target="http://www.complexneeds.org.uk/" TargetMode="External"/><Relationship Id="rId3" Type="http://schemas.openxmlformats.org/officeDocument/2006/relationships/hyperlink" Target="http://www.idponline.org.uk/" TargetMode="External"/><Relationship Id="rId4" Type="http://schemas.openxmlformats.org/officeDocument/2006/relationships/hyperlink" Target="http://www.nasentraining.org.uk/training-pack" TargetMode="Externa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301680"/>
            <a:ext cx="806616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AN OVERVIEW OF THE NEW SEN SYSTEM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148392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utumn Term 201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sented by the SEN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6" descr="children"/>
          <p:cNvPicPr/>
          <p:nvPr/>
        </p:nvPicPr>
        <p:blipFill>
          <a:blip r:embed="rId1"/>
          <a:stretch/>
        </p:blipFill>
        <p:spPr>
          <a:xfrm>
            <a:off x="2987640" y="1844640"/>
            <a:ext cx="388944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301320"/>
            <a:ext cx="784872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EFINITION OF SEN PROVIS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15640" y="1557360"/>
            <a:ext cx="7777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 provision is that which is something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dditional t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fferent from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which  is provided for the majority of pup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goes beyond the differentiated approaches and learning arrangements normally provided as part of high quality teach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nclude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asonable adjustment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ing made for disabled pupils, to ensure access to the curriculum, extra-curricular activities, facilities and inform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560" y="301320"/>
            <a:ext cx="81378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N IS EVERY TEACHERS’ RESPONSIBILIT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71280" y="1628640"/>
            <a:ext cx="7848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EN Code of Practice (0-25) 2014 stat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very teacher is responsible and accountable for the progress and development of all pupils in their class, wherever or whoever the pupils are working with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includes SEND pupils, who may be working with a specialist teacher, external professional or a teaching assistant, on an additional interven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very teacher is expected to have an understanding of the strategies to identify &amp; support vulnerable pupils, and knowledge of the special educational needs most frequently encountere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82868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SEN PROVISION: SEN SUPPOR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 Support for those who don’t have an EHC Pl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duated approach – 4 types of action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s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e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s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range of information gathered to establish SEN pupil’s needs (learning &amp; well-be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parents informed about pupils need for SEN Support; Class teacher, SENCO, parent &amp; pupil agree upon additional provision and expected prog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Class teacher responsible for SEN pupils assessment for learning, progress, curriculum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ew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class teacher reviews impact of SEN support termly, with parent/pupil &amp; revises SEN Suppor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806616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N PROVISION: EDUCATION, HEALTH AND CARE (EHC) PLAN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557360"/>
            <a:ext cx="824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HC Plans a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hose with more complex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ewed formally annually – using person- centred planning and the structured convers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comes foc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ear about how services will work together to support the outcomes &amp; meet the pupil’s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 pupil &amp; parent focused, putting them at the centre of decision making about SEN prov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ing information about how the parents personal budget for SEN is to be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06436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MPLICATIONS OF THE SEN CHANGES FOR EVERY TEACHER &amp; T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00000" y="1628640"/>
            <a:ext cx="824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ll teachers and TAs mus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now where SEN pupils are in their learning &amp; developmen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en to the views and insights of parents and the SEN pupil to inform planning for provisio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high expectations and ambitions for SEN pupil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 stretching targe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k SEN pupil progress towards meeting target set every term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regular assessments of SEN pupil progres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280" y="3013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MPLICATIONS OF THE SEN CHANGES FOR EVERY TEACHER &amp; T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71280" y="1557360"/>
            <a:ext cx="7848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ll teachers and TAs mus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ep the additional/different provision under review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sure intervention approaches used are evidence-based and are having a positive impact on SEN pupil progres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n and review SEN support, in partnership with parents/carers’, the SEN pupil &amp; SENC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est more specialist assessments where a SEN pupil appears to be making inadequate progress, and falling considerably behind their pe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THE ROLE OF THE SENC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850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c lead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f SEN policy &amp; prov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providing professional advice and guidance to staff, on the graduated approach to SEN Supp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 build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contributing to the professional development of teachers and TAs in meeting the four areas of 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abor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ommissioning support from external ag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y Assur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evaluating the impact of SEN Support and EHC Plan provision, across the sch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o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or SEN pupils and their parents/carers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748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IGNPOSTING TO FURTHER SEN RESOURC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42920" y="1628640"/>
            <a:ext cx="7850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vanced training materials for autism; dyslexia; speech, language and communication; emotional, social and behavioural difficulties; &amp; moderate learning difficulties     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advanced-training.org.u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ining materials for complex need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complexneeds.org.u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lusion Development Programme (ID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www.idponline.org.u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sen resources: A Whole School Approach to Improving Access, Participation and Achiev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www.nasentraining.org.uk/training-p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LECTION &amp; NEXT STEP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369800" y="1628280"/>
            <a:ext cx="7313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y question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will be your first priority for action following this presentatio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               </a:t>
            </a: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SYNOPSIS OF SESS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6000" y="155700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 &amp; Disability legis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different in the new SEN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rifying SEND terminology, areas of SEN and iden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 provision under the new SEN framework fo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 Support; and Education, Health &amp; Care Pl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ications of the SEN changes for Every Teacher and Teaching Assis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CO ro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gnposting to useful SEN resource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SEN &amp; DISABILITY LEGISLA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16000" y="1557360"/>
            <a:ext cx="7632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hildren and Families Act 201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cial Educational Needs Code of Practice (0-25) 201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Equality Act 2010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301680"/>
            <a:ext cx="842508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WHAT IS DIFFERENT IN THE NEW SEN SYSTEM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13880" y="1628640"/>
            <a:ext cx="8178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 covers 0-25 age rang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 pupils &amp; their parents to inform SEN prov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 support (replacing Action and Action Plu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Ps replaced by an individual plan, outlining targets, expected outcomes, SEN provision made &amp; its impac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, Health &amp; Care Plans replace SEN stat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, Health &amp; Care services working closer together to provide additional SEN prov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301680"/>
            <a:ext cx="860436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DEFINITION OF S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921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ild has SEN if they have a learning difficulty or disability which calls for special educational provision to be made for t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hool age child has a learning difficulty or disability if they ha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ificant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eater difficulty in learning than their same age pe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560" y="301320"/>
            <a:ext cx="799308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DEFINITION OF DISABILITY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921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ild has a disability if they have a physical or mental impairment, and the impairment ha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tantial and long-ter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se effect on their ability to carry out normal day-to-day activit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ability prevents or hinders the child from making use of educational facilities of a kind generally provided for others of the same 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301320"/>
            <a:ext cx="820872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IDENTIFICATION – 4 AREAS OF S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9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N Code of Practice (0-25) 2014 identifies four areas of SEN (high-incidence S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 &amp; interactio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Autistic spectrum, SLCN, SpLD, sensory, physical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gnition &amp; learning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MLD, SLD, SpLD, PM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al, mental &amp; emotional health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.g. ADD, ADHD, Austistic spectrum, bipolar disorder, self harm, eating disorders, substance abuse, depr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ory and/or physical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HI, VI, MSI, P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301320"/>
            <a:ext cx="845964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SEN PUPILS – ADEQUATE PROGRES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71640" y="1557360"/>
            <a:ext cx="7921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the right SEN provision, SEN pupils are expected to mak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dequate prog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dequate progress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ea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 pupil makes similar progress to their peers, starting from the same base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ches or betters the SEN pupil’s previous rate of prog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oses the attainment gap between the SEN pupil and their pe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s the attainment gap growing w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828036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IGH QUALITY TEACHING FOR AL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00000" y="1557360"/>
            <a:ext cx="806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High quality teaching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all featur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ilds on SEN pupils prior lear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 pupils are active learners &amp; extend lear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s multi-sensory learning approaches (VA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ers/TA model good learning &amp; how to lea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od use is made of open questioning, thinking aloud, explanation, and thinking time is giv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pils talk about their learning, &amp; work in pairs, groups, whole class, and independent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iculum materials match pupils’ reading 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rning broken down into small ste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03:39:07Z</dcterms:created>
  <dc:creator>Rita Cheminais</dc:creator>
  <dc:description/>
  <dc:language>en-US</dc:language>
  <cp:lastModifiedBy>mdavey</cp:lastModifiedBy>
  <dcterms:modified xsi:type="dcterms:W3CDTF">2014-03-03T09:07:04Z</dcterms:modified>
  <cp:revision>42</cp:revision>
  <dc:subject/>
  <dc:title>LEARN TO LISTEN TO THE PUPIL VOICE</dc:title>
</cp:coreProperties>
</file>